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2CE-1ADE-4D33-A1FB-8137E2A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A8B-BF18-4B20-86E0-3EB14C3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EBE-DB6B-4F79-BC79-33232D1B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159-2EC6-45AC-B12E-0CC79F7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372-366E-4F7E-B05D-BF747D6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C20-861A-4B8E-92C1-2C53098E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AB3-1D90-4B48-9074-1EA0A289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D8F-C3B5-446C-817B-9DEB280F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3BA-2401-45D7-BCA6-FBEE5319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681-DDB5-409D-94FD-A8DB873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164-4083-492F-BE00-CFC3E7A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1A5-36D6-4BF0-80AB-D394B81B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5D3-B986-4B1C-B06B-13721171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533520"/>
          <a:ext cx="7848360" cy="6110280"/>
        </p:xfrm>
        <a:graphic>
          <a:graphicData uri="http://schemas.openxmlformats.org/drawingml/2006/table">
            <a:tbl>
              <a:tblPr/>
              <a:tblGrid>
                <a:gridCol w="2133360"/>
                <a:gridCol w="1371600"/>
                <a:gridCol w="1295640"/>
                <a:gridCol w="1477800"/>
                <a:gridCol w="156996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c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De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o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b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and w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ouf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hey 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le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20:11:12Z</dcterms:created>
  <dc:creator>Judith M Paradis</dc:creator>
  <dc:description/>
  <dc:language>en-US</dc:language>
  <cp:lastModifiedBy>Judith M Paradis</cp:lastModifiedBy>
  <dcterms:modified xsi:type="dcterms:W3CDTF">2008-02-28T20:24:55Z</dcterms:modified>
  <cp:revision>2</cp:revision>
  <dc:subject/>
  <dc:title>Slide 1</dc:title>
</cp:coreProperties>
</file>